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7D07-1276-40E5-987E-1BDAF65A8CE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F34B-2E25-43D4-8ED1-A5DAC052207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0603-B272-416C-B112-824024BA074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9371-BFF7-4C12-89BF-F958DE80EB2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EB68-AA86-485E-B0F8-2BE13B1BA9A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7C81-BCCB-4A4F-A8E4-52DC3304AB8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99C4-CF10-4B33-B4BD-D7E3E6A25B9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38A3-CD6B-46D7-8E2F-A3AF99AA0E1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2B1E-B079-4892-BA0A-B20C6F5227E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CF6A-E125-4337-8D24-AF21EDF44A3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6A53-1DB0-40FD-9454-461408EE73F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21ED-8365-447A-A977-1A3B5A3A1B5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5AC6-3BD3-4411-B0F5-EB6C1E40256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9DF4-6FBC-4475-B6EC-273906AFBD5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C719-DB30-4A1F-B988-CC92528D637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1DDD-E997-48D9-8BBE-A97E10EBCD2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0287F-7126-4113-B552-C463FDFF953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E2C0-FDF9-46BD-B779-C53634AA4B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AAAE0-E944-44CC-9271-A14A80096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62263-9A30-439E-8A92-00B2DB2B5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E172B-E33C-47B8-BC71-560B845B6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562C7-4AEB-47BC-9827-F0E588FFA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42FBA-E2BE-45FA-ABB3-D57723448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F3F54-5AE4-41CB-A964-7632723F8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00262-81BB-446D-B410-EE152D8B1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F4356-2503-4985-A72A-1A8E1B16A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AD24D-73BA-472C-8DF9-AF5B2D3AA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413BF-2E96-484E-A4DD-DDE577DC4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199EB-508C-4CA1-9111-CF6BCB0CE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81A25-5843-4BEC-8F12-2B40BAD74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429B2-B031-4AAE-B917-C800792AC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B56AE-81EF-43CE-8C80-405D8D805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30818-26FB-4664-AAFB-434425CE2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6175C-B2DC-4B7E-A5A6-775C49697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A7880-AD1A-4816-A25A-C4679D60D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334E11-523D-426A-AB55-66102564CB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9D9686-4F30-48E4-96FE-74040D8699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6165C-249A-45A6-9C3B-CEE3842271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34E50D-B260-4245-9E33-0748B4EAC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0BD8F5-DC38-41A1-988E-5E174D2659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CCBAB-736D-4C70-889B-0EDD72AD6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3ADE8E-DF8B-4146-84ED-89BE73144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C3658-07A8-429E-A1BB-7DC409088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72CDE-EBCD-49E1-814F-3DC614C46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70943-3996-47EC-B4D7-22009C26E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12D32E-AC6E-4798-BD4B-A18D5A911C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3414B4-D18C-437D-8691-2E357DA8B4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34C4EB-4E6A-4AC0-9AAD-CE851872D8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755EC5-7A06-4584-9DC1-5C7F6BFFC8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4C5C93-F51B-4C5C-8439-FEF758446A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413A45-B27D-4C0C-865F-802A5A6D23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063E1-57C3-4A69-B7A7-4FA8477CF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E1C0E5-DD82-4659-8361-65C56424DC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65F91-0345-4CBA-A158-31812829F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9454BB-01F2-4DF5-B210-376339A503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8B1F7-F1D5-485A-A93A-8B7E0A2A1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5D6C2-2633-4579-B01B-4E1766CBC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464E8-109E-42C4-AE7B-0878ED816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79C35B-631C-4BE1-A4B8-C42F0C37F2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88291E-83DF-4EC9-9596-5D1AA11C91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56CAEC-DE8E-46BF-9FB4-7B501A1B30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AF304-6BB3-4613-AAAB-980F93295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EFEAC-EBDD-4D30-8D0D-AC1016426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361AA-2AC9-4479-847F-BE323D2F2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B2875-902A-4081-BCE4-5C6F1DC78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706D7-2F01-41E1-B644-F59AEA6E8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3DB1-66B9-4809-89BC-263B5B46E7C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3587-84D8-4702-A1AC-656938714C7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FF7D-11BA-43D4-AD1A-4A4569D429B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10C3-907F-45EF-9268-F65A8ED73D1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4440" y="1011240"/>
            <a:ext cx="6701040" cy="235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0000ff"/>
                </a:solidFill>
                <a:latin typeface="Arial"/>
              </a:rPr>
              <a:t>SOLVING GENETIC PROBLEMS</a:t>
            </a:r>
            <a:endParaRPr b="0" lang="en-US" sz="4800" spc="-1" strike="noStrike">
              <a:solidFill>
                <a:srgbClr val="000000"/>
              </a:solidFill>
              <a:latin typeface="Arial"/>
            </a:endParaRPr>
          </a:p>
        </p:txBody>
      </p:sp>
      <p:sp>
        <p:nvSpPr>
          <p:cNvPr id="174" name="PlaceHolder 2"/>
          <p:cNvSpPr>
            <a:spLocks noGrp="1"/>
          </p:cNvSpPr>
          <p:nvPr>
            <p:ph type="subTitle"/>
          </p:nvPr>
        </p:nvSpPr>
        <p:spPr>
          <a:xfrm>
            <a:off x="4881600" y="4738680"/>
            <a:ext cx="4114800" cy="1752480"/>
          </a:xfrm>
          <a:prstGeom prst="rect">
            <a:avLst/>
          </a:prstGeom>
          <a:noFill/>
          <a:ln w="0">
            <a:noFill/>
          </a:ln>
        </p:spPr>
        <p:txBody>
          <a:bodyPr anchor="t">
            <a:noAutofit/>
          </a:bodyPr>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ksana Hrycyk</a:t>
            </a:r>
            <a:endParaRPr b="0" lang="en-US" sz="2400" spc="-1" strike="noStrike">
              <a:solidFill>
                <a:srgbClr val="000000"/>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ohn Mirand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4320"/>
            <a:ext cx="8226360" cy="60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Genetically Modified Food Debate</a:t>
            </a:r>
            <a:endParaRPr b="0" lang="en-US" sz="3200" spc="-1" strike="noStrike">
              <a:solidFill>
                <a:srgbClr val="000000"/>
              </a:solidFill>
              <a:latin typeface="Arial"/>
            </a:endParaRPr>
          </a:p>
        </p:txBody>
      </p:sp>
      <p:sp>
        <p:nvSpPr>
          <p:cNvPr id="198" name="PlaceHolder 2"/>
          <p:cNvSpPr>
            <a:spLocks noGrp="1"/>
          </p:cNvSpPr>
          <p:nvPr>
            <p:ph/>
          </p:nvPr>
        </p:nvSpPr>
        <p:spPr>
          <a:xfrm>
            <a:off x="455400" y="1600200"/>
            <a:ext cx="6562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wo groups of 5 students will be selected. One group in favour, the other against the use of genetically modified foo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ch group will have a week to prepare and find valid research to support their case.  A rubric will be used to assess their knowledge, communication, application, and techn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body of 5 judges will conduct the debate, prepare rules, and assess which group had a more influencing approach.  Judges will make a half reflection on how debaters affected their decis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udience will be the jury who will decide which team was the winner.  They will make a one-page reflection on how debaters affected their decision.</a:t>
            </a:r>
            <a:endParaRPr b="0" lang="en-US" sz="2000" spc="-1" strike="noStrike">
              <a:solidFill>
                <a:srgbClr val="000000"/>
              </a:solidFill>
              <a:latin typeface="Arial"/>
            </a:endParaRPr>
          </a:p>
        </p:txBody>
      </p:sp>
      <p:pic>
        <p:nvPicPr>
          <p:cNvPr id="199" name="Picture 4" descr="debate"/>
          <p:cNvPicPr/>
          <p:nvPr/>
        </p:nvPicPr>
        <p:blipFill>
          <a:blip r:embed="rId1"/>
          <a:stretch/>
        </p:blipFill>
        <p:spPr>
          <a:xfrm>
            <a:off x="6869160" y="3621240"/>
            <a:ext cx="2274840" cy="3108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4680"/>
            <a:ext cx="8226360" cy="68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Punnett Square Problems</a:t>
            </a:r>
            <a:endParaRPr b="0" lang="en-US" sz="3200" spc="-1" strike="noStrike">
              <a:solidFill>
                <a:srgbClr val="000000"/>
              </a:solidFill>
              <a:latin typeface="Arial"/>
            </a:endParaRPr>
          </a:p>
        </p:txBody>
      </p:sp>
      <p:sp>
        <p:nvSpPr>
          <p:cNvPr id="20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various scenarios where students will solve the genetic problem by using Punnett squ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lutions to problems will be taken in class by using PowerPoint and clickers.  Students will have the chance to chose their answers.  Once answers are provided, a short explanation will be added.</a:t>
            </a:r>
            <a:endParaRPr b="0" lang="en-US" sz="2400" spc="-1" strike="noStrike">
              <a:solidFill>
                <a:srgbClr val="000000"/>
              </a:solidFill>
              <a:latin typeface="Arial"/>
            </a:endParaRPr>
          </a:p>
        </p:txBody>
      </p:sp>
      <p:pic>
        <p:nvPicPr>
          <p:cNvPr id="202" name="Picture 5" descr="jpeg-Punnett_square_mendel_flowers_svg"/>
          <p:cNvPicPr/>
          <p:nvPr/>
        </p:nvPicPr>
        <p:blipFill>
          <a:blip r:embed="rId1"/>
          <a:stretch/>
        </p:blipFill>
        <p:spPr>
          <a:xfrm>
            <a:off x="5970600" y="3827520"/>
            <a:ext cx="3173400" cy="30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
        <p:nvSpPr>
          <p:cNvPr id="204" name="PlaceHolder 2"/>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s involved with Punnett Squares, specifically probabilities and binomial distribution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Students will need to apply the Mendelian laws and determine probabilities to make predictions on the genotypes and/or phenotypes of the progeny. One method that may help overcome this difficulty is to spend a period reviewing these math concepts, as well as working through various applicable probability problems to clarify the methodology, including tips and tricks. These problems do not have to be genetics-based, but can be any typical probability problem, like rolling dice, drawing playing cards etc.</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5" descr="Face-Difficulties-Positively-185x185"/>
          <p:cNvPicPr/>
          <p:nvPr/>
        </p:nvPicPr>
        <p:blipFill>
          <a:blip r:embed="rId1"/>
          <a:stretch/>
        </p:blipFill>
        <p:spPr>
          <a:xfrm>
            <a:off x="7203960" y="4952880"/>
            <a:ext cx="1762200" cy="176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ing the notions of alleles, loci and genes, as they all can be conceived as somewhat similar.</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An allele is the various alternate forms of a single gene, and that single gene can have many alleles. A locus, on the other hand, is any specific location on a chromosome. We think the suggested Alleles Gizmos Lab and the Alleles Role Play may help clarify these differences as well as clarify various other questions about alleles and genes that may arise. </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pic>
        <p:nvPicPr>
          <p:cNvPr id="208" name="Picture 6" descr="technical_difficulties32-300x225"/>
          <p:cNvPicPr/>
          <p:nvPr/>
        </p:nvPicPr>
        <p:blipFill>
          <a:blip r:embed="rId1"/>
          <a:stretch/>
        </p:blipFill>
        <p:spPr>
          <a:xfrm>
            <a:off x="6286680" y="4714920"/>
            <a:ext cx="2857320" cy="214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5400" y="1600200"/>
            <a:ext cx="8226360" cy="4525920"/>
          </a:xfrm>
          <a:prstGeom prst="rect">
            <a:avLst/>
          </a:prstGeom>
          <a:noFill/>
          <a:ln w="0">
            <a:noFill/>
          </a:ln>
        </p:spPr>
        <p:txBody>
          <a:bodyPr anchor="t">
            <a:normAutofit fontScale="99000"/>
          </a:bodyPr>
          <a:p>
            <a:pPr marL="452520" indent="-452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tinguishing between the Mendelian laws: </a:t>
            </a:r>
            <a:r>
              <a:rPr b="0" lang="en-CA" sz="2400" spc="-1" strike="noStrike" u="sng">
                <a:solidFill>
                  <a:srgbClr val="000000"/>
                </a:solidFill>
                <a:uFillTx/>
                <a:latin typeface="Arial"/>
              </a:rPr>
              <a:t>the law of segregation</a:t>
            </a:r>
            <a:r>
              <a:rPr b="0" lang="en-CA" sz="2400" spc="-1" strike="noStrike">
                <a:solidFill>
                  <a:srgbClr val="000000"/>
                </a:solidFill>
                <a:latin typeface="Arial"/>
              </a:rPr>
              <a:t> and the </a:t>
            </a:r>
            <a:r>
              <a:rPr b="0" lang="en-CA" sz="2400" spc="-1" strike="noStrike" u="sng">
                <a:solidFill>
                  <a:srgbClr val="000000"/>
                </a:solidFill>
                <a:uFillTx/>
                <a:latin typeface="Arial"/>
              </a:rPr>
              <a:t>law of independent assortment</a:t>
            </a:r>
            <a:r>
              <a:rPr b="0" lang="en-CA" sz="2400" spc="-1" strike="noStrike">
                <a:solidFill>
                  <a:srgbClr val="000000"/>
                </a:solidFill>
                <a:latin typeface="Arial"/>
              </a:rPr>
              <a:t>. These two laws are quite similar, but define different ideas. The law of segregation states that two alleles of a single trait segregate during gamete formation and then one allele from each parent randomly unite at fertilization, while the law of independent assortment states that different pairs of alleles segregate independently of each other. </a:t>
            </a:r>
            <a:endParaRPr b="0" lang="en-US" sz="2400" spc="-1" strike="noStrike">
              <a:solidFill>
                <a:srgbClr val="000000"/>
              </a:solidFill>
              <a:latin typeface="Arial"/>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lleles Gizmos Lab and the Alleles Role Play can be used along with clear definitions and examples to help clarify any misunderstandings.</a:t>
            </a:r>
            <a:r>
              <a:rPr b="0" lang="en-CA" sz="2400" spc="-1" strike="noStrike">
                <a:solidFill>
                  <a:srgbClr val="000000"/>
                </a:solidFill>
                <a:latin typeface="Arial"/>
              </a:rPr>
              <a:t> </a:t>
            </a:r>
            <a:endParaRPr b="0" lang="en-US" sz="2400" spc="-1" strike="noStrike">
              <a:solidFill>
                <a:srgbClr val="000000"/>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type="title"/>
          </p:nvPr>
        </p:nvSpPr>
        <p:spPr>
          <a:xfrm>
            <a:off x="455400" y="274320"/>
            <a:ext cx="822636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74320"/>
            <a:ext cx="8226360" cy="692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afety Precautions</a:t>
            </a:r>
            <a:endParaRPr b="0" lang="en-US" sz="3200" spc="-1" strike="noStrike">
              <a:solidFill>
                <a:srgbClr val="000000"/>
              </a:solidFill>
              <a:latin typeface="Arial"/>
            </a:endParaRPr>
          </a:p>
        </p:txBody>
      </p:sp>
      <p:sp>
        <p:nvSpPr>
          <p:cNvPr id="212" name="PlaceHolder 2"/>
          <p:cNvSpPr>
            <a:spLocks noGrp="1"/>
          </p:cNvSpPr>
          <p:nvPr>
            <p:ph/>
          </p:nvPr>
        </p:nvSpPr>
        <p:spPr>
          <a:xfrm>
            <a:off x="618840" y="2741760"/>
            <a:ext cx="8226360" cy="289224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is a virtual lab, so to avoid students accessing inappropriate internet sites, the school library will block any other website.  The student will only have access to www.explorelearning.com for the gizmos lab.</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the role-play activity, students will be taken to the gym for ample space where they can easily and with speed move to work on their Punnett square activities.</a:t>
            </a:r>
            <a:endParaRPr b="0" lang="en-US" sz="2400" spc="-1" strike="noStrike">
              <a:solidFill>
                <a:srgbClr val="000000"/>
              </a:solidFill>
              <a:latin typeface="Arial"/>
            </a:endParaRPr>
          </a:p>
        </p:txBody>
      </p:sp>
      <p:pic>
        <p:nvPicPr>
          <p:cNvPr id="213" name="Picture 5" descr="labsafety"/>
          <p:cNvPicPr/>
          <p:nvPr/>
        </p:nvPicPr>
        <p:blipFill>
          <a:blip r:embed="rId1"/>
          <a:stretch/>
        </p:blipFill>
        <p:spPr>
          <a:xfrm>
            <a:off x="6705720" y="0"/>
            <a:ext cx="2438280" cy="190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actical Applications</a:t>
            </a:r>
            <a:endParaRPr b="0" lang="en-US" sz="3200" spc="-1" strike="noStrike">
              <a:solidFill>
                <a:srgbClr val="000000"/>
              </a:solidFill>
              <a:latin typeface="Arial"/>
            </a:endParaRPr>
          </a:p>
        </p:txBody>
      </p:sp>
      <p:sp>
        <p:nvSpPr>
          <p:cNvPr id="215" name="PlaceHolder 2"/>
          <p:cNvSpPr>
            <a:spLocks noGrp="1"/>
          </p:cNvSpPr>
          <p:nvPr>
            <p:ph/>
          </p:nvPr>
        </p:nvSpPr>
        <p:spPr>
          <a:xfrm>
            <a:off x="-360" y="2332080"/>
            <a:ext cx="82263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Practical applications of genetics in medicine and surgery</a:t>
            </a:r>
            <a:r>
              <a:rPr b="0" lang="en-CA" sz="2000" spc="-1" strike="noStrike">
                <a:solidFill>
                  <a:srgbClr val="000000"/>
                </a:solidFill>
                <a:latin typeface="Arial"/>
              </a:rPr>
              <a:t>.  http://www.ncbi.nlm.nih.gov/pmc/articles/PMC1817215/pdf/brmedj02576-0029.pd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http://www.biophage.com/genetic-engineering.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Disease diagnosis and prevention through genetic technology:</a:t>
            </a:r>
            <a:r>
              <a:rPr b="0" lang="en-CA" sz="2000" spc="-1" strike="noStrike">
                <a:solidFill>
                  <a:srgbClr val="000000"/>
                </a:solidFill>
                <a:latin typeface="Arial"/>
              </a:rPr>
              <a:t> http://www.michener.ca/ce/postdiploma/genetics_technology.php#wh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Genetic Engineering in agriculture:</a:t>
            </a:r>
            <a:r>
              <a:rPr b="0" lang="en-CA" sz="2000" spc="-1" strike="noStrike">
                <a:solidFill>
                  <a:srgbClr val="000000"/>
                </a:solidFill>
                <a:latin typeface="Arial"/>
              </a:rPr>
              <a:t> Show students (after debate) how genetically modified food has helped increase crop yield and support the 7-billion world population. Foods with added minerals and vitami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Forensic medicine:</a:t>
            </a:r>
            <a:r>
              <a:rPr b="0" lang="en-CA" sz="2000" spc="-1" strike="noStrike">
                <a:solidFill>
                  <a:srgbClr val="000000"/>
                </a:solidFill>
                <a:latin typeface="Arial"/>
              </a:rPr>
              <a:t> Through the use of genetics, mysteries and crimes can be solved.</a:t>
            </a:r>
            <a:endParaRPr b="0" lang="en-US" sz="2000" spc="-1" strike="noStrike">
              <a:solidFill>
                <a:srgbClr val="000000"/>
              </a:solidFill>
              <a:latin typeface="Arial"/>
            </a:endParaRPr>
          </a:p>
        </p:txBody>
      </p:sp>
      <p:pic>
        <p:nvPicPr>
          <p:cNvPr id="216" name="Picture 7" descr="genetics-sm"/>
          <p:cNvPicPr/>
          <p:nvPr/>
        </p:nvPicPr>
        <p:blipFill>
          <a:blip r:embed="rId1"/>
          <a:stretch/>
        </p:blipFill>
        <p:spPr>
          <a:xfrm>
            <a:off x="6956280" y="0"/>
            <a:ext cx="2187720" cy="2014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4680"/>
            <a:ext cx="5400360" cy="5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fferentiated Assessment</a:t>
            </a:r>
            <a:endParaRPr b="0" lang="en-US" sz="3200" spc="-1" strike="noStrike">
              <a:solidFill>
                <a:srgbClr val="000000"/>
              </a:solidFill>
              <a:latin typeface="Arial"/>
            </a:endParaRPr>
          </a:p>
        </p:txBody>
      </p:sp>
      <p:sp>
        <p:nvSpPr>
          <p:cNvPr id="218" name="PlaceHolder 2"/>
          <p:cNvSpPr>
            <a:spLocks noGrp="1"/>
          </p:cNvSpPr>
          <p:nvPr>
            <p:ph/>
          </p:nvPr>
        </p:nvSpPr>
        <p:spPr>
          <a:xfrm>
            <a:off x="917280" y="1839600"/>
            <a:ext cx="8226360" cy="5018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diagnostic quiz</a:t>
            </a:r>
            <a:r>
              <a:rPr b="0" lang="en-CA" sz="2000" spc="-1" strike="noStrike">
                <a:solidFill>
                  <a:srgbClr val="000000"/>
                </a:solidFill>
                <a:latin typeface="Arial"/>
              </a:rPr>
              <a:t> will be administered testing student knowledge in probability and probability probl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Student Exploration Worksheet</a:t>
            </a:r>
            <a:r>
              <a:rPr b="0" lang="en-CA" sz="2000" spc="-1" strike="noStrike">
                <a:solidFill>
                  <a:srgbClr val="000000"/>
                </a:solidFill>
                <a:latin typeface="Arial"/>
              </a:rPr>
              <a:t> associated with the Alleles Gizmos Lab, which will be marked for Knowledge and Understanding, and Thinking and Inquiry (formative assess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Rubric</a:t>
            </a:r>
            <a:r>
              <a:rPr b="0" lang="en-CA" sz="2000" spc="-1" strike="noStrike">
                <a:solidFill>
                  <a:srgbClr val="000000"/>
                </a:solidFill>
                <a:latin typeface="Arial"/>
              </a:rPr>
              <a:t> for the Allele Role Play activity and debate for knowledge and understanding as well as communication and ap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zes</a:t>
            </a:r>
            <a:r>
              <a:rPr b="0" lang="en-CA" sz="2000" spc="-1" strike="noStrike">
                <a:solidFill>
                  <a:srgbClr val="000000"/>
                </a:solidFill>
                <a:latin typeface="Arial"/>
              </a:rPr>
              <a:t> assessing the progress of their understanding, including definitions, Punnett squares and genetic probl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ral responses</a:t>
            </a:r>
            <a:r>
              <a:rPr b="0" lang="en-CA" sz="2000" spc="-1" strike="noStrike">
                <a:solidFill>
                  <a:srgbClr val="000000"/>
                </a:solidFill>
                <a:latin typeface="Arial"/>
              </a:rPr>
              <a:t> during in class discuss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which true/false, multiple choice, matching exercises, math problems, short answers, and a reflection section (essay).</a:t>
            </a:r>
            <a:endParaRPr b="0" lang="en-US" sz="2000" spc="-1" strike="noStrike">
              <a:solidFill>
                <a:srgbClr val="000000"/>
              </a:solidFill>
              <a:latin typeface="Arial"/>
            </a:endParaRPr>
          </a:p>
        </p:txBody>
      </p:sp>
      <p:pic>
        <p:nvPicPr>
          <p:cNvPr id="219" name="Picture 5" descr="assessment"/>
          <p:cNvPicPr/>
          <p:nvPr/>
        </p:nvPicPr>
        <p:blipFill>
          <a:blip r:embed="rId1"/>
          <a:stretch/>
        </p:blipFill>
        <p:spPr>
          <a:xfrm>
            <a:off x="6488280" y="0"/>
            <a:ext cx="2655720" cy="224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Specific Expectations</a:t>
            </a:r>
            <a:endParaRPr b="0" lang="en-US" sz="3600" spc="-1" strike="noStrike">
              <a:solidFill>
                <a:srgbClr val="000000"/>
              </a:solidFill>
              <a:latin typeface="Arial"/>
            </a:endParaRPr>
          </a:p>
        </p:txBody>
      </p:sp>
      <p:sp>
        <p:nvSpPr>
          <p:cNvPr id="1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2.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Use the Punnett square method to solve bas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enetics problems involving monohybrid cross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ncomplete dominance, codominance, dihybr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rosses, and sex-linked genes [PR, AI, 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3.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Explain the concepts of genotype, phenotyp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dominance, incomplete domin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odominance, recessiveness, and sex linkage according to Mendelian laws of inheritanc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60200"/>
            <a:ext cx="731376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tic problems? No problem</a:t>
            </a:r>
            <a:endParaRPr b="0" lang="en-US" sz="3200" spc="-1" strike="noStrike">
              <a:solidFill>
                <a:srgbClr val="000000"/>
              </a:solidFill>
              <a:latin typeface="Arial"/>
            </a:endParaRPr>
          </a:p>
        </p:txBody>
      </p:sp>
      <p:sp>
        <p:nvSpPr>
          <p:cNvPr id="178" name="PlaceHolder 2"/>
          <p:cNvSpPr>
            <a:spLocks noGrp="1"/>
          </p:cNvSpPr>
          <p:nvPr>
            <p:ph type="subTitle"/>
          </p:nvPr>
        </p:nvSpPr>
        <p:spPr>
          <a:xfrm>
            <a:off x="447480" y="946080"/>
            <a:ext cx="7313400" cy="3022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man comes to a doctor and says “doctor, my wife is cheating on me.  She and I are both black, my son however, is white…she must have done it with somebody else”.  “ Another patient says that his wife is also cheating, they both have brown eyes but the baby is blue-eyed”. The doctor sights, he knows about dominant and recessive alleles.  Do you know what that is?</a:t>
            </a:r>
            <a:endParaRPr b="0" lang="en-US" sz="2400" spc="-1" strike="noStrike">
              <a:solidFill>
                <a:srgbClr val="000000"/>
              </a:solidFill>
              <a:latin typeface="Arial"/>
            </a:endParaRPr>
          </a:p>
        </p:txBody>
      </p:sp>
      <p:pic>
        <p:nvPicPr>
          <p:cNvPr id="179" name="Picture 7" descr="blackparents"/>
          <p:cNvPicPr/>
          <p:nvPr/>
        </p:nvPicPr>
        <p:blipFill>
          <a:blip r:embed="rId1"/>
          <a:stretch/>
        </p:blipFill>
        <p:spPr>
          <a:xfrm>
            <a:off x="5972040" y="3686040"/>
            <a:ext cx="3171960" cy="317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lue eyes from brown eyes video</a:t>
            </a:r>
            <a:endParaRPr b="0" lang="en-US" sz="32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ttp://www.youtube.com/watch?v=7QwTEKhVED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5" descr="brown_eyes_3_3"/>
          <p:cNvPicPr/>
          <p:nvPr/>
        </p:nvPicPr>
        <p:blipFill>
          <a:blip r:embed="rId1"/>
          <a:stretch/>
        </p:blipFill>
        <p:spPr>
          <a:xfrm>
            <a:off x="2360520" y="2992320"/>
            <a:ext cx="6477120" cy="2495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3880" y="178920"/>
            <a:ext cx="8226720" cy="208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st people think that we should look like our parents, however, most of us usually have different physical characteristics.  </a:t>
            </a:r>
            <a:endParaRPr b="0" lang="en-US" sz="3200" spc="-1" strike="noStrike">
              <a:solidFill>
                <a:srgbClr val="000000"/>
              </a:solidFill>
              <a:latin typeface="Arial"/>
            </a:endParaRPr>
          </a:p>
        </p:txBody>
      </p:sp>
      <p:sp>
        <p:nvSpPr>
          <p:cNvPr id="184" name="PlaceHolder 2"/>
          <p:cNvSpPr>
            <a:spLocks noGrp="1"/>
          </p:cNvSpPr>
          <p:nvPr>
            <p:ph/>
          </p:nvPr>
        </p:nvSpPr>
        <p:spPr>
          <a:xfrm>
            <a:off x="455400" y="2841480"/>
            <a:ext cx="8226360" cy="328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all start by knowing about dominant and recessive alle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understand this, we need to learn about phenotype, genotype, recessiveness, dominance, and how to use Punnett squares to solve genetic problems.</a:t>
            </a:r>
            <a:endParaRPr b="0" lang="en-US" sz="2400" spc="-1" strike="noStrike">
              <a:solidFill>
                <a:srgbClr val="000000"/>
              </a:solidFill>
              <a:latin typeface="Arial"/>
            </a:endParaRPr>
          </a:p>
        </p:txBody>
      </p:sp>
      <p:pic>
        <p:nvPicPr>
          <p:cNvPr id="185" name="Picture 5" descr="image016"/>
          <p:cNvPicPr/>
          <p:nvPr/>
        </p:nvPicPr>
        <p:blipFill>
          <a:blip r:embed="rId1"/>
          <a:stretch/>
        </p:blipFill>
        <p:spPr>
          <a:xfrm>
            <a:off x="5987880" y="4808520"/>
            <a:ext cx="3156120" cy="204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861480"/>
            <a:ext cx="3481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Lesson Sequence</a:t>
            </a:r>
            <a:endParaRPr b="0" lang="en-US" sz="4000" spc="-1" strike="noStrike">
              <a:solidFill>
                <a:srgbClr val="000000"/>
              </a:solidFill>
              <a:latin typeface="Arial"/>
            </a:endParaRPr>
          </a:p>
        </p:txBody>
      </p:sp>
      <p:sp>
        <p:nvSpPr>
          <p:cNvPr id="187" name="PlaceHolder 2"/>
          <p:cNvSpPr>
            <a:spLocks noGrp="1"/>
          </p:cNvSpPr>
          <p:nvPr>
            <p:ph/>
          </p:nvPr>
        </p:nvSpPr>
        <p:spPr>
          <a:xfrm>
            <a:off x="3198600" y="151920"/>
            <a:ext cx="5483160" cy="6705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One:</a:t>
            </a:r>
            <a:r>
              <a:rPr b="0" lang="en-CA" sz="2400" spc="-1" strike="noStrike">
                <a:solidFill>
                  <a:srgbClr val="000000"/>
                </a:solidFill>
                <a:latin typeface="Arial"/>
              </a:rPr>
              <a:t> Genotype Vs. Phenotyp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wo:</a:t>
            </a:r>
            <a:r>
              <a:rPr b="0" lang="en-CA" sz="2400" spc="-1" strike="noStrike">
                <a:solidFill>
                  <a:srgbClr val="000000"/>
                </a:solidFill>
                <a:latin typeface="Arial"/>
              </a:rPr>
              <a:t> DNA and Allel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hree:</a:t>
            </a:r>
            <a:r>
              <a:rPr b="0" lang="en-CA" sz="2400" spc="-1" strike="noStrike">
                <a:solidFill>
                  <a:srgbClr val="000000"/>
                </a:solidFill>
                <a:latin typeface="Arial"/>
              </a:rPr>
              <a:t> Recessiveness and dominanc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our:</a:t>
            </a:r>
            <a:r>
              <a:rPr b="0" lang="en-CA" sz="2400" spc="-1" strike="noStrike">
                <a:solidFill>
                  <a:srgbClr val="000000"/>
                </a:solidFill>
                <a:latin typeface="Arial"/>
              </a:rPr>
              <a:t> Mendelian Law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ive:</a:t>
            </a:r>
            <a:r>
              <a:rPr b="0" lang="en-CA" sz="2400" spc="-1" strike="noStrike">
                <a:solidFill>
                  <a:srgbClr val="000000"/>
                </a:solidFill>
                <a:latin typeface="Arial"/>
              </a:rPr>
              <a:t> monohybrid crosses, dihybrid crosses, and sex-linked gen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Six:</a:t>
            </a:r>
            <a:r>
              <a:rPr b="0" lang="en-CA" sz="2400" spc="-1" strike="noStrike">
                <a:solidFill>
                  <a:srgbClr val="000000"/>
                </a:solidFill>
                <a:latin typeface="Arial"/>
              </a:rPr>
              <a:t> Solving Genetic problems with Punnett squares.</a:t>
            </a:r>
            <a:endParaRPr b="0" lang="en-US" sz="2400" spc="-1" strike="noStrike">
              <a:solidFill>
                <a:srgbClr val="000000"/>
              </a:solidFill>
              <a:latin typeface="Arial"/>
            </a:endParaRPr>
          </a:p>
        </p:txBody>
      </p:sp>
      <p:pic>
        <p:nvPicPr>
          <p:cNvPr id="188" name="Picture 5" descr="lesson-1-its-not-that-hard-teacher"/>
          <p:cNvPicPr/>
          <p:nvPr/>
        </p:nvPicPr>
        <p:blipFill>
          <a:blip r:embed="rId1"/>
          <a:stretch/>
        </p:blipFill>
        <p:spPr>
          <a:xfrm>
            <a:off x="0" y="2646360"/>
            <a:ext cx="3278160" cy="421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3720" y="158760"/>
            <a:ext cx="8226360" cy="62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s Gizmos Lab</a:t>
            </a:r>
            <a:endParaRPr b="0" lang="en-US" sz="3200" spc="-1" strike="noStrike">
              <a:solidFill>
                <a:srgbClr val="000000"/>
              </a:solidFill>
              <a:latin typeface="Arial"/>
            </a:endParaRPr>
          </a:p>
        </p:txBody>
      </p:sp>
      <p:sp>
        <p:nvSpPr>
          <p:cNvPr id="190" name="PlaceHolder 2"/>
          <p:cNvSpPr>
            <a:spLocks noGrp="1"/>
          </p:cNvSpPr>
          <p:nvPr>
            <p:ph/>
          </p:nvPr>
        </p:nvSpPr>
        <p:spPr>
          <a:xfrm>
            <a:off x="917280" y="1006200"/>
            <a:ext cx="8226360" cy="341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og on: www.explorelearning.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ASS CODE: </a:t>
            </a:r>
            <a:r>
              <a:rPr b="1" lang="en-CA" sz="2400" spc="-1" strike="noStrike">
                <a:solidFill>
                  <a:srgbClr val="000000"/>
                </a:solidFill>
                <a:latin typeface="Arial"/>
              </a:rPr>
              <a:t>S56M7CTW34</a:t>
            </a:r>
            <a:r>
              <a:rPr b="0" lang="en-C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solve mouse genetic problems with 2 tra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interactively learn that crossing parents with certain dominant or recessive traits will produce a probability of offsp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understand the effects of dominant alleles in each crossing.</a:t>
            </a:r>
            <a:endParaRPr b="0" lang="en-US" sz="2400" spc="-1" strike="noStrike">
              <a:solidFill>
                <a:srgbClr val="000000"/>
              </a:solidFill>
              <a:latin typeface="Arial"/>
            </a:endParaRPr>
          </a:p>
        </p:txBody>
      </p:sp>
      <p:pic>
        <p:nvPicPr>
          <p:cNvPr id="191" name="Picture 5" descr="punnett4"/>
          <p:cNvPicPr/>
          <p:nvPr/>
        </p:nvPicPr>
        <p:blipFill>
          <a:blip r:embed="rId1"/>
          <a:stretch/>
        </p:blipFill>
        <p:spPr>
          <a:xfrm>
            <a:off x="4002120" y="3989520"/>
            <a:ext cx="4033800" cy="271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8760" y="274320"/>
            <a:ext cx="8659800" cy="69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Dominant and Recessive Alleles Role-Play</a:t>
            </a:r>
            <a:endParaRPr b="0" lang="en-US" sz="3200" spc="-1" strike="noStrike">
              <a:solidFill>
                <a:srgbClr val="000000"/>
              </a:solidFill>
              <a:latin typeface="Arial"/>
            </a:endParaRPr>
          </a:p>
        </p:txBody>
      </p:sp>
      <p:sp>
        <p:nvSpPr>
          <p:cNvPr id="193" name="PlaceHolder 2"/>
          <p:cNvSpPr>
            <a:spLocks noGrp="1"/>
          </p:cNvSpPr>
          <p:nvPr>
            <p:ph/>
          </p:nvPr>
        </p:nvSpPr>
        <p:spPr>
          <a:xfrm>
            <a:off x="455400" y="1599840"/>
            <a:ext cx="8226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2 groups of 12 students.  Each student will represent Alleles. Two from the mother, two from the father (each parent will have dominant and recessive genes of a physical characteristic.  Each student will be wearing different colour T-shirts for easy distinction), the other eight students will be used to provide the 4 possible genotype combinations.  A captain will be selected for each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ach group will provide the probabilities of each possible combination in a certain amount of tim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 Role-Play Activity Continuation</a:t>
            </a:r>
            <a:endParaRPr b="0" lang="en-US" sz="32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o get all 4 combinations in the shortest amount of time will be the winn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other 5 exercises will be performed; students will select the parents’ genotype thi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hat gets the 4 combinations the fastest in all 6 exercises will get a box of cookies (the winners will be asked to share with the rest of the class to promote sportsmanshi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5" descr="teamroleplay"/>
          <p:cNvPicPr/>
          <p:nvPr/>
        </p:nvPicPr>
        <p:blipFill>
          <a:blip r:embed="rId1"/>
          <a:stretch/>
        </p:blipFill>
        <p:spPr>
          <a:xfrm>
            <a:off x="6942240" y="4362480"/>
            <a:ext cx="1752480" cy="230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21:26:27Z</dcterms:created>
  <dc:creator>John Miranda</dc:creator>
  <dc:description/>
  <dc:language>en-US</dc:language>
  <cp:lastModifiedBy>Oksana</cp:lastModifiedBy>
  <dcterms:modified xsi:type="dcterms:W3CDTF">2011-11-10T00:21:25Z</dcterms:modified>
  <cp:revision>36</cp:revision>
  <dc:subject/>
  <dc:title>Slide 1</dc:title>
</cp:coreProperties>
</file>